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0B2F-6472-4BFC-999E-5852B1C80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9466-F06F-413F-AC8C-669D0A9A1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CE5F-0A43-4DC3-B03B-9AFDE8B3A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E881-E5FC-4615-9457-89BB31DC0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70B1-59E1-4E90-9419-236A951B1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217D-4547-4E9B-A9A6-E4E048268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E79B-6DC0-46F8-A801-CFF5237E9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7D0A-A115-494D-80DC-3ACF377CB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D516-84F0-48C7-AE4D-35FC160FA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BD48-2A8F-4218-8D6F-657731264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E11B-4DB8-421B-8B3D-9B342FFCF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8F63-2587-46EA-9D29-1023FF13F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F317-829F-40D6-AE19-06BD02923A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53B-2331-490B-8D19-8E1700873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strategies do you use in your classroom to help students with patterning and algeb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7B3C-2F4F-4EC2-8BCF-3CDB00470B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nd Your Pattern Pardn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other representations of your linear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51F8-14C5-4A63-8B8D-E4821C66A5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1ABC-0118-4BE3-84EF-B75E6F5A0D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Algebraic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8B27-AA8B-4527-B1D2-C2DFDBE6DD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task for you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D27-0315-4469-9BBA-1B27FB0E84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638172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solutions from the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DE5B-4A36-4F01-9DA2-C7EE816C2E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do you anticip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D62D-C303-4FA1-ADFA-64837ECE3C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has solved the problem, think of a challenge problem that you could provide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 student seems to be struggling, think of a scaffold question for the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5DB3-7026-4227-863C-8C6D10FA80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ss it 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752480"/>
          <a:ext cx="8229600" cy="246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lleng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487-B285-40C4-BA27-023F0BD300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lk a walk and look at the collected work from all of the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F7E2-4692-4148-B243-C196A475AF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aul Alves</cp:lastModifiedBy>
  <dcterms:modified xsi:type="dcterms:W3CDTF">2011-08-12T03:52:58Z</dcterms:modified>
  <cp:revision>17</cp:revision>
  <dc:subject/>
  <dc:title>&lt;Title&gt;</dc:title>
</cp:coreProperties>
</file>